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C5F-B7BF-4197-9677-895C714A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05C-097E-461F-9CCD-523CF801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0B5-145D-4565-9EBD-8A6DB782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45F-71D3-432B-BDDE-B44DDEDF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B79-0FDF-4F86-A029-2F56B486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1C4-1E1D-4289-A7A2-36C9BC1F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D00-4074-4799-B45D-307E7F1B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08F-3BE6-4909-ACBB-2B750D70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89A-638E-4CCF-9F69-93B23D43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009-13F4-4B21-90DB-BF60FF0B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B0D-9BFF-4993-9A29-DA86B3B1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82D-8030-40CF-B697-643BA4E8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330D-8D55-4134-82AB-366DA22E5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743200"/>
            <a:ext cx="2590920" cy="3200400"/>
          </a:xfrm>
          <a:prstGeom prst="rect">
            <a:avLst/>
          </a:prstGeom>
          <a:solidFill>
            <a:srgbClr val="fe70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2362320"/>
            <a:ext cx="2514600" cy="21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0"/>
            <a:ext cx="3276720" cy="16200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/Graphics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gdoll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al Re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124080" cy="1739880"/>
          </a:xfrm>
          <a:prstGeom prst="rect">
            <a:avLst/>
          </a:prstGeom>
          <a:solidFill>
            <a:srgbClr val="fe705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Creator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b selectio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,Y,Z Location Sl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0"/>
            <a:ext cx="2743200" cy="173988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Mode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505320" y="2514600"/>
          <a:ext cx="23428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514600"/>
                    <a:ext cx="23428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1676520" cy="39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38080" y="3325680"/>
            <a:ext cx="1371600" cy="48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578640" y="2743200"/>
            <a:ext cx="11174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772400" y="3105000"/>
            <a:ext cx="1143000" cy="8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228680" y="5362560"/>
          <a:ext cx="676440" cy="3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28680" y="5362560"/>
                    <a:ext cx="6764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971800" y="1522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248520" y="1522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7086600" y="5057640"/>
            <a:ext cx="1179360" cy="1495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529400" y="4738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5080" y="23623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4495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66920" y="56386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78160" y="21700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71920" y="27432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Wi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39625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21:34:04Z</dcterms:created>
  <dc:creator>zeke</dc:creator>
  <dc:description/>
  <dc:language>en-US</dc:language>
  <cp:lastModifiedBy>zeke</cp:lastModifiedBy>
  <dcterms:modified xsi:type="dcterms:W3CDTF">2006-03-24T22:30:59Z</dcterms:modified>
  <cp:revision>4</cp:revision>
  <dc:subject/>
  <dc:title>Slide 1</dc:title>
</cp:coreProperties>
</file>